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5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3.gif" ContentType="image/gif"/>
  <Override PartName="/ppt/media/image26.png" ContentType="image/png"/>
  <Override PartName="/ppt/media/image29.wmf" ContentType="image/x-wmf"/>
  <Override PartName="/ppt/media/image6.wmf" ContentType="image/x-wmf"/>
  <Override PartName="/ppt/media/image11.wmf" ContentType="image/x-wmf"/>
  <Override PartName="/ppt/media/image5.jpeg" ContentType="image/jpeg"/>
  <Override PartName="/ppt/media/image48.wmf" ContentType="image/x-wmf"/>
  <Override PartName="/ppt/media/image4.jpeg" ContentType="image/jpeg"/>
  <Override PartName="/ppt/media/image8.wmf" ContentType="image/x-wmf"/>
  <Override PartName="/ppt/media/image38.wmf" ContentType="image/x-wmf"/>
  <Override PartName="/ppt/media/image20.wmf" ContentType="image/x-wmf"/>
  <Override PartName="/ppt/media/image18.wmf" ContentType="image/x-wmf"/>
  <Override PartName="/ppt/media/image39.png" ContentType="image/png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36.png" ContentType="image/png"/>
  <Override PartName="/ppt/media/image47.wmf" ContentType="image/x-wmf"/>
  <Override PartName="/ppt/media/image1.gif" ContentType="image/gif"/>
  <Override PartName="/ppt/media/image50.wmf" ContentType="image/x-wmf"/>
  <Override PartName="/ppt/media/image13.wmf" ContentType="image/x-wmf"/>
  <Override PartName="/ppt/media/image10.jpeg" ContentType="image/jpeg"/>
  <Override PartName="/ppt/media/image2.gif" ContentType="image/gif"/>
  <Override PartName="/ppt/media/image40.wmf" ContentType="image/x-wmf"/>
  <Override PartName="/ppt/media/image52.wmf" ContentType="image/x-wmf"/>
  <Override PartName="/ppt/media/image41.wmf" ContentType="image/x-wmf"/>
  <Override PartName="/ppt/media/image53.wmf" ContentType="image/x-wmf"/>
  <Override PartName="/ppt/media/image33.png" ContentType="image/png"/>
  <Override PartName="/ppt/media/image35.wmf" ContentType="image/x-wmf"/>
  <Override PartName="/ppt/media/image34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12.wmf" ContentType="image/x-wmf"/>
  <Override PartName="/ppt/media/image49.wmf" ContentType="image/x-wmf"/>
  <Override PartName="/ppt/media/image51.wmf" ContentType="image/x-wmf"/>
  <Override PartName="/ppt/media/image9.jpeg" ContentType="image/jpeg"/>
  <Override PartName="/ppt/media/image23.wmf" ContentType="image/x-wmf"/>
  <Override PartName="/ppt/media/image7.wmf" ContentType="image/x-wmf"/>
  <Override PartName="/ppt/media/image3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E7ED-01D8-4D47-9354-749ADD960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3DEA-D726-402F-969B-8D6015950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4262-AE05-47F6-AE0C-E5E85F9F0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672B-2284-4AD9-B665-1090BA6FE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33A6-0954-4AC6-B976-68C2992D7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74A8-5D22-4CEA-A3E0-790842D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CCAB-270F-4708-AA6B-789BACB5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88BB-6E67-4411-A8E8-28DDE3355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AC36-57D7-4C0D-BA93-EE5199841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25E-B72C-402B-9EF1-B72C7EFF6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9699-384A-4603-A6F1-775D7679C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1FAE-8951-4D3B-A20A-ED419EEDB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E9B3-90E5-4037-BD97-5FB063D0E8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6629400"/>
            <a:ext cx="2209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thevisualclassroom.c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5.wm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8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1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5.wmf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1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2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3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8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9.wmf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4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5.wmf"/><Relationship Id="rId1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2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7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2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29.wmf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1219320"/>
            <a:ext cx="792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cc"/>
                </a:solidFill>
                <a:latin typeface="Times New Roman"/>
              </a:rPr>
              <a:t>Trigonometry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 study of triangles (sides and angl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467320" y="533412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hysic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419720" y="3352680"/>
            <a:ext cx="238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survey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252252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gonometry has been used for centuries in the study o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457200" y="3505320"/>
            <a:ext cx="3276720" cy="861840"/>
            <a:chOff x="457200" y="3505320"/>
            <a:chExt cx="3276720" cy="861840"/>
          </a:xfrm>
        </p:grpSpPr>
        <p:sp>
          <p:nvSpPr>
            <p:cNvPr id="47" name=""/>
            <p:cNvSpPr/>
            <p:nvPr/>
          </p:nvSpPr>
          <p:spPr>
            <a:xfrm>
              <a:off x="457200" y="3581280"/>
              <a:ext cx="228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astronom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2743200" y="3505320"/>
              <a:ext cx="990720" cy="8618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9" name=""/>
          <p:cNvGrpSpPr/>
          <p:nvPr/>
        </p:nvGrpSpPr>
        <p:grpSpPr>
          <a:xfrm>
            <a:off x="5645160" y="4191120"/>
            <a:ext cx="2965320" cy="761760"/>
            <a:chOff x="5645160" y="4191120"/>
            <a:chExt cx="2965320" cy="761760"/>
          </a:xfrm>
        </p:grpSpPr>
        <p:sp>
          <p:nvSpPr>
            <p:cNvPr id="50" name=""/>
            <p:cNvSpPr/>
            <p:nvPr/>
          </p:nvSpPr>
          <p:spPr>
            <a:xfrm>
              <a:off x="5645160" y="4191120"/>
              <a:ext cx="247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geography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7854840" y="4191120"/>
              <a:ext cx="755640" cy="7617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2" name=""/>
          <p:cNvGrpSpPr/>
          <p:nvPr/>
        </p:nvGrpSpPr>
        <p:grpSpPr>
          <a:xfrm>
            <a:off x="685800" y="4910040"/>
            <a:ext cx="3809880" cy="1109520"/>
            <a:chOff x="685800" y="4910040"/>
            <a:chExt cx="3809880" cy="1109520"/>
          </a:xfrm>
        </p:grpSpPr>
        <p:sp>
          <p:nvSpPr>
            <p:cNvPr id="53" name=""/>
            <p:cNvSpPr/>
            <p:nvPr/>
          </p:nvSpPr>
          <p:spPr>
            <a:xfrm>
              <a:off x="685800" y="5138640"/>
              <a:ext cx="3143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engineering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3124080" y="4910040"/>
              <a:ext cx="1371600" cy="1109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"/>
          <p:cNvSpPr txBox="1"/>
          <p:nvPr/>
        </p:nvSpPr>
        <p:spPr>
          <a:xfrm>
            <a:off x="442800" y="317520"/>
            <a:ext cx="84106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The Primary Trigonometric Ratios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4000"/>
                            </p:stCondLst>
                            <p:childTnLst>
                              <p:par>
                                <p:cTn id="2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5500"/>
                            </p:stCondLst>
                            <p:childTnLst>
                              <p:par>
                                <p:cTn id="32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981080" y="170496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sin 21°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792520"/>
            <a:ext cx="3124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s 53°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905120" y="396252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tan 72°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19720" y="169056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3584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95680" y="279252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0.6018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0" y="39625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3.07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80880" y="53352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Use a calculator to determine the following rat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494" dur="indefinite" restart="never" nodeType="tmRoot">
          <p:childTnLst>
            <p:seq>
              <p:cTn id="495" dur="indefinite" nodeType="mainSeq">
                <p:childTnLst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4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706320" y="127944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0.414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44400" y="3044880"/>
            <a:ext cx="396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0.6820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44400" y="4819680"/>
            <a:ext cx="358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1.56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481640" y="1279440"/>
            <a:ext cx="432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 si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0.414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60760" y="302436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cos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0.682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440240" y="479916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4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an</a:t>
            </a:r>
            <a:r>
              <a:rPr b="0" lang="en-US" sz="40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(1.56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272200" y="20224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24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278320" y="380052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47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299200" y="558180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57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termine the following angles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earest degre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30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0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2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4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54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80880" y="228600"/>
            <a:ext cx="8382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termine the following angles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i="1" lang="en-US" sz="2800" spc="-1" strike="noStrike">
                <a:solidFill>
                  <a:srgbClr val="3333cc"/>
                </a:solidFill>
                <a:latin typeface="Times New Roman"/>
              </a:rPr>
              <a:t>nearest degree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06320" y="1147680"/>
            <a:ext cx="142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4400" y="3024360"/>
            <a:ext cx="148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44400" y="5103720"/>
            <a:ext cx="141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81640" y="1219320"/>
            <a:ext cx="432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si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.583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460760" y="30481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.2666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4495680" y="498312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ta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.87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113440" y="184464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36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119560" y="3763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7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05520" y="563868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62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057400" y="871560"/>
          <a:ext cx="612720" cy="11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871560"/>
                    <a:ext cx="612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3" name=""/>
          <p:cNvGraphicFramePr/>
          <p:nvPr/>
        </p:nvGraphicFramePr>
        <p:xfrm>
          <a:off x="2057400" y="2743200"/>
          <a:ext cx="612720" cy="11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2743200"/>
                    <a:ext cx="612720" cy="11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2008080" y="4821120"/>
          <a:ext cx="576360" cy="1116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8080" y="4821120"/>
                    <a:ext cx="576360" cy="11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7" name=""/>
          <p:cNvSpPr/>
          <p:nvPr/>
        </p:nvSpPr>
        <p:spPr>
          <a:xfrm>
            <a:off x="1523880" y="20876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58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600200" y="405936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0.266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523880" y="604044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.87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320" y="2763720"/>
            <a:ext cx="8915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04760" y="4718160"/>
            <a:ext cx="8915400" cy="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6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1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6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13" dur="1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 flipH="1">
            <a:off x="2563920" y="743040"/>
            <a:ext cx="4633920" cy="22492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27240" y="27637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989760" y="1890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024680" y="28702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92560" y="2647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92920" y="2647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211880" y="14907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66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rot="20317800">
            <a:off x="4203720" y="1325160"/>
            <a:ext cx="115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80880"/>
            <a:ext cx="53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 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Determine side </a:t>
            </a: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17760" y="2475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0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0292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6 sin 30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022720" y="5389560"/>
            <a:ext cx="198144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3 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64120" y="44467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a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6 (0.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5" name=""/>
          <p:cNvCxnSpPr>
            <a:endCxn id="262" idx="1"/>
          </p:cNvCxnSpPr>
          <p:nvPr/>
        </p:nvCxnSpPr>
        <p:spPr>
          <a:xfrm flipV="1">
            <a:off x="3200400" y="3825360"/>
            <a:ext cx="1829520" cy="1642320"/>
          </a:xfrm>
          <a:prstGeom prst="bentConnector3">
            <a:avLst>
              <a:gd name="adj1" fmla="val 49990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graphicFrame>
        <p:nvGraphicFramePr>
          <p:cNvPr id="266" name=""/>
          <p:cNvGraphicFramePr/>
          <p:nvPr/>
        </p:nvGraphicFramePr>
        <p:xfrm>
          <a:off x="1413000" y="3557520"/>
          <a:ext cx="1863720" cy="120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13000" y="3557520"/>
                    <a:ext cx="1863720" cy="120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1066680" y="4876920"/>
          <a:ext cx="2133720" cy="1181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066680" y="4876920"/>
                    <a:ext cx="2133720" cy="118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0" name=""/>
          <p:cNvSpPr/>
          <p:nvPr/>
        </p:nvSpPr>
        <p:spPr>
          <a:xfrm flipV="1">
            <a:off x="4087800" y="1848960"/>
            <a:ext cx="3048120" cy="76212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514600" y="1066680"/>
            <a:ext cx="1371600" cy="838440"/>
          </a:xfrm>
          <a:prstGeom prst="cloudCallout">
            <a:avLst>
              <a:gd name="adj1" fmla="val 74768"/>
              <a:gd name="adj2" fmla="val 1553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685800"/>
            <a:ext cx="1447560" cy="838080"/>
          </a:xfrm>
          <a:prstGeom prst="cloudCallout">
            <a:avLst>
              <a:gd name="adj1" fmla="val -41995"/>
              <a:gd name="adj2" fmla="val 6041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57200" y="1219320"/>
            <a:ext cx="1447920" cy="1523880"/>
          </a:xfrm>
          <a:prstGeom prst="cloudCallout">
            <a:avLst>
              <a:gd name="adj1" fmla="val -61842"/>
              <a:gd name="adj2" fmla="val 6718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20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8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3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9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7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52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65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66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 flipH="1">
            <a:off x="4779360" y="1447920"/>
            <a:ext cx="3352680" cy="22096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495680" y="355932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8035920" y="9144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7897680" y="35956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H="1">
            <a:off x="7827480" y="3352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82784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508880" y="177336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30880" y="35542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rot="19586400">
            <a:off x="5826600" y="18982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 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292720" y="31510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0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304920"/>
            <a:ext cx="624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x. 2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ame two trig ratios that will allow us to calculate side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838080" y="1944720"/>
          <a:ext cx="2587680" cy="117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944720"/>
                    <a:ext cx="258768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7" name=""/>
          <p:cNvGraphicFramePr/>
          <p:nvPr/>
        </p:nvGraphicFramePr>
        <p:xfrm>
          <a:off x="917640" y="3581280"/>
          <a:ext cx="2587680" cy="1179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917640" y="3581280"/>
                    <a:ext cx="258768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672" dur="indefinite" restart="never" nodeType="tmRoot">
          <p:childTnLst>
            <p:seq>
              <p:cTn id="673" dur="indefinite" nodeType="mainSeq">
                <p:childTnLst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0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7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 flipH="1">
            <a:off x="4287240" y="762120"/>
            <a:ext cx="3352680" cy="220968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065480" y="2894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488360" y="228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7480" y="28893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7335360" y="2666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335720" y="2666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7200" y="15228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Example 3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Determine side </a:t>
            </a: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892920" y="1004760"/>
            <a:ext cx="9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5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738760" y="286848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620120" y="15732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432160" y="390384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8 tan 55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424240" y="5467320"/>
            <a:ext cx="2514600" cy="6426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1.4 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417760" y="463536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b</a:t>
            </a: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8 (1.428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73360" y="1362240"/>
          <a:ext cx="1828800" cy="1180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73360" y="1362240"/>
                    <a:ext cx="182880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496880" y="2629080"/>
          <a:ext cx="2133720" cy="11808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96880" y="2629080"/>
                    <a:ext cx="2133720" cy="118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6" name=""/>
          <p:cNvSpPr/>
          <p:nvPr/>
        </p:nvSpPr>
        <p:spPr>
          <a:xfrm flipH="1">
            <a:off x="5970240" y="1600200"/>
            <a:ext cx="1143000" cy="12952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5880" y="3505320"/>
            <a:ext cx="1219320" cy="838080"/>
          </a:xfrm>
          <a:prstGeom prst="cloudCallout">
            <a:avLst>
              <a:gd name="adj1" fmla="val -46486"/>
              <a:gd name="adj2" fmla="val -6685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924680" y="2362320"/>
            <a:ext cx="990720" cy="838080"/>
          </a:xfrm>
          <a:prstGeom prst="cloudCallout">
            <a:avLst>
              <a:gd name="adj1" fmla="val -47916"/>
              <a:gd name="adj2" fmla="val -77083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6320" y="838080"/>
            <a:ext cx="1523880" cy="1509840"/>
          </a:xfrm>
          <a:prstGeom prst="cloudCallout">
            <a:avLst>
              <a:gd name="adj1" fmla="val -37185"/>
              <a:gd name="adj2" fmla="val 7144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7" dur="2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1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3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4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1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8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0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47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ubTriangle"/>
          <p:cNvSpPr/>
          <p:nvPr/>
        </p:nvSpPr>
        <p:spPr>
          <a:xfrm>
            <a:off x="4730760" y="1981080"/>
            <a:ext cx="3962520" cy="3124440"/>
          </a:xfr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59560" y="2209680"/>
            <a:ext cx="22860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788160" y="21333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641840" y="49737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8458200" y="3463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254640" y="16002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rot="18145800">
            <a:off x="4994280" y="2909880"/>
            <a:ext cx="1301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rot="20409600">
            <a:off x="6409080" y="4149720"/>
            <a:ext cx="140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7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30492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 4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easure of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85800" y="2427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0.7058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90560" y="4414680"/>
            <a:ext cx="2286000" cy="58140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45.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914400" y="3463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co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–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.705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2" name=""/>
          <p:cNvGraphicFramePr/>
          <p:nvPr/>
        </p:nvGraphicFramePr>
        <p:xfrm>
          <a:off x="755640" y="1066680"/>
          <a:ext cx="18763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066680"/>
                    <a:ext cx="18763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4" name=""/>
          <p:cNvSpPr/>
          <p:nvPr/>
        </p:nvSpPr>
        <p:spPr>
          <a:xfrm>
            <a:off x="4271760" y="4240800"/>
            <a:ext cx="1362240" cy="1843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62" y="965"/>
                </a:moveTo>
                <a:arcTo wR="10800" hR="10800" stAng="-3935981" swAng="2494743"/>
                <a:lnTo>
                  <a:pt x="10800" y="10800"/>
                </a:lnTo>
                <a:close/>
              </a:path>
              <a:path fill="none" w="21600" h="21600">
                <a:moveTo>
                  <a:pt x="15262" y="965"/>
                </a:moveTo>
                <a:arcTo wR="10800" hR="10800" stAng="-3935981" swAng="2494743"/>
              </a:path>
            </a:pathLst>
          </a:custGeom>
          <a:noFill/>
          <a:ln w="19080">
            <a:solidFill>
              <a:srgbClr val="ff0000"/>
            </a:solidFill>
            <a:miter/>
            <a:headEnd len="med" type="arrow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rot="20468400">
            <a:off x="4322880" y="1930320"/>
            <a:ext cx="1752480" cy="685800"/>
          </a:xfrm>
          <a:prstGeom prst="wedgeRoundRectCallout">
            <a:avLst>
              <a:gd name="adj1" fmla="val -7796"/>
              <a:gd name="adj2" fmla="val 122328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ja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 rot="20323800">
            <a:off x="5925240" y="5178600"/>
            <a:ext cx="2314800" cy="604440"/>
          </a:xfrm>
          <a:prstGeom prst="wedgeRoundRectCallout">
            <a:avLst>
              <a:gd name="adj1" fmla="val -13680"/>
              <a:gd name="adj2" fmla="val -124944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ote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238160" y="914400"/>
            <a:ext cx="1676520" cy="1600200"/>
          </a:xfrm>
          <a:prstGeom prst="cloudCallout">
            <a:avLst>
              <a:gd name="adj1" fmla="val -31629"/>
              <a:gd name="adj2" fmla="val -8472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48" dur="indefinite" restart="never" nodeType="tmRoot">
          <p:childTnLst>
            <p:seq>
              <p:cTn id="749" dur="indefinite" nodeType="mainSeq">
                <p:childTnLst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4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000"/>
                            </p:stCondLst>
                            <p:childTnLst>
                              <p:par>
                                <p:cTn id="7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7" dur="2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0" dur="2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2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92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8437680" y="348444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21160" y="360216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84680" y="13017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6935760" y="2022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rot="17945400">
            <a:off x="4359960" y="217404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5720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 5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 of side P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3016080"/>
            <a:ext cx="320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35°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638680" y="4572000"/>
            <a:ext cx="266724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7.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1004760" y="1693800"/>
          <a:ext cx="2362320" cy="127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04760" y="1693800"/>
                    <a:ext cx="2362320" cy="127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8" name=""/>
          <p:cNvGraphicFramePr/>
          <p:nvPr/>
        </p:nvGraphicFramePr>
        <p:xfrm>
          <a:off x="1981080" y="3905280"/>
          <a:ext cx="2206800" cy="120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3905280"/>
                    <a:ext cx="22068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1984320" y="5276880"/>
          <a:ext cx="2206800" cy="120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84320" y="5276880"/>
                    <a:ext cx="2206800" cy="120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"/>
          <p:cNvSpPr/>
          <p:nvPr/>
        </p:nvSpPr>
        <p:spPr>
          <a:xfrm rot="7131600">
            <a:off x="5640480" y="1870200"/>
            <a:ext cx="2133360" cy="350496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362720" y="304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 flipV="1">
            <a:off x="5258880" y="2708280"/>
            <a:ext cx="2133720" cy="45720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7327080" y="2805480"/>
            <a:ext cx="792000" cy="1843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5262" y="965"/>
                </a:moveTo>
                <a:arcTo wR="10800" hR="10800" stAng="-3935981" swAng="3438152"/>
                <a:lnTo>
                  <a:pt x="10800" y="10800"/>
                </a:lnTo>
                <a:close/>
              </a:path>
              <a:path fill="none" w="21600" h="21600">
                <a:moveTo>
                  <a:pt x="15262" y="965"/>
                </a:moveTo>
                <a:arcTo wR="10800" hR="10800" stAng="-3935981" swAng="3438152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2240" y="2139840"/>
            <a:ext cx="2700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5757840" y="198072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8" name=""/>
          <p:cNvCxnSpPr>
            <a:endCxn id="335" idx="1"/>
          </p:cNvCxnSpPr>
          <p:nvPr/>
        </p:nvCxnSpPr>
        <p:spPr>
          <a:xfrm flipV="1">
            <a:off x="4191120" y="4906080"/>
            <a:ext cx="1434240" cy="970920"/>
          </a:xfrm>
          <a:prstGeom prst="bentConnector3">
            <a:avLst>
              <a:gd name="adj1" fmla="val 50489"/>
            </a:avLst>
          </a:prstGeom>
          <a:ln w="2844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9" name=""/>
          <p:cNvSpPr/>
          <p:nvPr/>
        </p:nvSpPr>
        <p:spPr>
          <a:xfrm>
            <a:off x="3962520" y="1066680"/>
            <a:ext cx="1218960" cy="1067040"/>
          </a:xfrm>
          <a:prstGeom prst="cloudCallout">
            <a:avLst>
              <a:gd name="adj1" fmla="val 23046"/>
              <a:gd name="adj2" fmla="val 74254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391520" y="990720"/>
            <a:ext cx="1066680" cy="990360"/>
          </a:xfrm>
          <a:prstGeom prst="cloudCallout">
            <a:avLst>
              <a:gd name="adj1" fmla="val -58629"/>
              <a:gd name="adj2" fmla="val 6474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83808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ethod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99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1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4" dur="2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8" dur="2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5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2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9" dur="1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844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000"/>
                            </p:stCondLst>
                            <p:childTnLst>
                              <p:par>
                                <p:cTn id="84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9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8437680" y="3484440"/>
            <a:ext cx="54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3602160"/>
            <a:ext cx="49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584680" y="130176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935760" y="202248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 rot="17945400">
            <a:off x="4359960" y="2174040"/>
            <a:ext cx="144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2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" y="152280"/>
            <a:ext cx="807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ample 6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asure of side P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384012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tan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5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219320" y="5562720"/>
            <a:ext cx="2666880" cy="119124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= 17.1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r>
              <a:rPr b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457200" y="2676600"/>
          <a:ext cx="2079720" cy="105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676600"/>
                    <a:ext cx="2079720" cy="10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rot="7131600">
            <a:off x="5640480" y="1870200"/>
            <a:ext cx="2133360" cy="3504960"/>
          </a:xfrm>
          <a:prstGeom prst="rtTriangle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7362720" y="30402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V="1">
            <a:off x="5562720" y="2590560"/>
            <a:ext cx="1295280" cy="6094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H="1">
            <a:off x="3799080" y="2878200"/>
            <a:ext cx="1918440" cy="21621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507" y="7530"/>
                </a:moveTo>
                <a:arcTo wR="10800" hR="10800" stAng="-9742451" swAng="3202460"/>
                <a:lnTo>
                  <a:pt x="10800" y="10800"/>
                </a:lnTo>
                <a:close/>
              </a:path>
              <a:path fill="none" w="21600" h="21600">
                <a:moveTo>
                  <a:pt x="507" y="7530"/>
                </a:moveTo>
                <a:arcTo wR="10800" hR="10800" stAng="-9742451" swAng="3202460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502240" y="2139840"/>
            <a:ext cx="2700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757840" y="198072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315200" y="990720"/>
            <a:ext cx="1219320" cy="1066680"/>
          </a:xfrm>
          <a:prstGeom prst="cloudCallout">
            <a:avLst>
              <a:gd name="adj1" fmla="val -52995"/>
              <a:gd name="adj2" fmla="val 6041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038480" y="990720"/>
            <a:ext cx="1067040" cy="990360"/>
          </a:xfrm>
          <a:prstGeom prst="cloudCallout">
            <a:avLst>
              <a:gd name="adj1" fmla="val 22916"/>
              <a:gd name="adj2" fmla="val 93111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685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Method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838080" y="14018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0°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838080" y="208764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835520" y="316404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5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1295280" y="46022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cc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1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1.42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8" fill="hold">
                      <p:stCondLst>
                        <p:cond delay="indefinite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2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3" fill="hold">
                      <p:stCondLst>
                        <p:cond delay="indefinite"/>
                      </p:stCondLst>
                      <p:childTnLst>
                        <p:par>
                          <p:cTn id="874" fill="hold">
                            <p:stCondLst>
                              <p:cond delay="0"/>
                            </p:stCondLst>
                            <p:childTnLst>
                              <p:par>
                                <p:cTn id="8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2000"/>
                            </p:stCondLst>
                            <p:childTnLst>
                              <p:par>
                                <p:cTn id="8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3500"/>
                            </p:stCondLst>
                            <p:childTnLst>
                              <p:par>
                                <p:cTn id="88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0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457200" y="258840"/>
            <a:ext cx="6705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Ex. 7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Q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90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" y="990720"/>
            <a:ext cx="678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) Find s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 cm 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Q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 c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6172200" y="961920"/>
            <a:ext cx="2742480" cy="2787120"/>
            <a:chOff x="6172200" y="961920"/>
            <a:chExt cx="2742480" cy="2787120"/>
          </a:xfrm>
        </p:grpSpPr>
        <p:sp>
          <p:nvSpPr>
            <p:cNvPr id="378" name=""/>
            <p:cNvSpPr/>
            <p:nvPr/>
          </p:nvSpPr>
          <p:spPr>
            <a:xfrm flipH="1">
              <a:off x="6698520" y="1520280"/>
              <a:ext cx="1591920" cy="1792080"/>
            </a:xfrm>
            <a:prstGeom prst="rtTriangle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8065080" y="961920"/>
              <a:ext cx="795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172200" y="3228480"/>
              <a:ext cx="69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8127000" y="3157560"/>
              <a:ext cx="787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2" name=""/>
          <p:cNvSpPr/>
          <p:nvPr/>
        </p:nvSpPr>
        <p:spPr>
          <a:xfrm>
            <a:off x="7010280" y="323064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18683400">
            <a:off x="6586560" y="19479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768320" y="1600200"/>
          <a:ext cx="16322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8320" y="1600200"/>
                    <a:ext cx="16322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6" name=""/>
          <p:cNvGraphicFramePr/>
          <p:nvPr/>
        </p:nvGraphicFramePr>
        <p:xfrm>
          <a:off x="3498840" y="1620720"/>
          <a:ext cx="709560" cy="1046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98840" y="1620720"/>
                    <a:ext cx="709560" cy="104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"/>
          <p:cNvSpPr/>
          <p:nvPr/>
        </p:nvSpPr>
        <p:spPr>
          <a:xfrm>
            <a:off x="304920" y="2971800"/>
            <a:ext cx="396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) Find cos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9" name=""/>
          <p:cNvGraphicFramePr/>
          <p:nvPr/>
        </p:nvGraphicFramePr>
        <p:xfrm>
          <a:off x="3879720" y="3787920"/>
          <a:ext cx="2063880" cy="998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79720" y="3787920"/>
                    <a:ext cx="2063880" cy="99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1" name=""/>
          <p:cNvSpPr/>
          <p:nvPr/>
        </p:nvSpPr>
        <p:spPr>
          <a:xfrm>
            <a:off x="817560" y="3629160"/>
            <a:ext cx="223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8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4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817560" y="4176720"/>
            <a:ext cx="23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64 – 1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4040" y="4759200"/>
            <a:ext cx="190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Q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4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4" name=""/>
          <p:cNvGraphicFramePr/>
          <p:nvPr/>
        </p:nvGraphicFramePr>
        <p:xfrm>
          <a:off x="955800" y="5291280"/>
          <a:ext cx="1704960" cy="610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9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55800" y="5291280"/>
                    <a:ext cx="1704960" cy="61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6" name=""/>
          <p:cNvGraphicFramePr/>
          <p:nvPr/>
        </p:nvGraphicFramePr>
        <p:xfrm>
          <a:off x="3862440" y="4959360"/>
          <a:ext cx="1996920" cy="450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9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62440" y="4959360"/>
                    <a:ext cx="1996920" cy="45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8" name=""/>
          <p:cNvGraphicFramePr/>
          <p:nvPr/>
        </p:nvGraphicFramePr>
        <p:xfrm>
          <a:off x="1057320" y="5913360"/>
          <a:ext cx="1512720" cy="5144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9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057320" y="5913360"/>
                    <a:ext cx="1512720" cy="51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400" name=""/>
          <p:cNvCxnSpPr/>
          <p:nvPr/>
        </p:nvCxnSpPr>
        <p:spPr>
          <a:xfrm flipV="1">
            <a:off x="2666520" y="4287600"/>
            <a:ext cx="1213560" cy="1884960"/>
          </a:xfrm>
          <a:prstGeom prst="bentConnector3">
            <a:avLst>
              <a:gd name="adj1" fmla="val 56646"/>
            </a:avLst>
          </a:prstGeom>
          <a:ln w="19080">
            <a:solidFill>
              <a:srgbClr val="3333cc"/>
            </a:solidFill>
            <a:miter/>
            <a:tailEnd len="med" type="triangle" w="med"/>
          </a:ln>
        </p:spPr>
      </p:cxnSp>
      <p:graphicFrame>
        <p:nvGraphicFramePr>
          <p:cNvPr id="401" name=""/>
          <p:cNvGraphicFramePr/>
          <p:nvPr/>
        </p:nvGraphicFramePr>
        <p:xfrm>
          <a:off x="4172040" y="5721480"/>
          <a:ext cx="1577880" cy="4507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172040" y="5721480"/>
                    <a:ext cx="1577880" cy="45072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03" name=""/>
          <p:cNvSpPr/>
          <p:nvPr/>
        </p:nvSpPr>
        <p:spPr>
          <a:xfrm flipH="1">
            <a:off x="7972560" y="29988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966080" y="2998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indefinite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0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5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8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fill="hold">
                      <p:stCondLst>
                        <p:cond delay="indefinite"/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5" dur="1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2" dur="1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7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9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6" dur="1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flipH="1">
            <a:off x="1066680" y="1817640"/>
            <a:ext cx="5486400" cy="2895480"/>
          </a:xfrm>
          <a:prstGeom prst="rtTriangle">
            <a:avLst/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46324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415200" y="12859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421320" y="463716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6233760" y="43876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34120" y="4387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469260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a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9936200">
            <a:off x="2386440" y="2477880"/>
            <a:ext cx="288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en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2560" y="3796200"/>
            <a:ext cx="1847880" cy="1821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0340" y="5738"/>
                </a:moveTo>
                <a:arcTo wR="10800" hR="10800" stAng="-1677042" swAng="1748982"/>
                <a:lnTo>
                  <a:pt x="10800" y="10800"/>
                </a:lnTo>
                <a:close/>
              </a:path>
              <a:path fill="none" w="21600" h="21600">
                <a:moveTo>
                  <a:pt x="20340" y="5738"/>
                </a:moveTo>
                <a:arcTo wR="10800" hR="10800" stAng="-1677042" swAng="1748982"/>
              </a:path>
            </a:pathLst>
          </a:custGeom>
          <a:solidFill>
            <a:srgbClr val="0066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2954160"/>
            <a:ext cx="214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po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2057400" y="3341520"/>
            <a:ext cx="4419720" cy="1154160"/>
          </a:xfrm>
          <a:prstGeom prst="line">
            <a:avLst/>
          </a:prstGeom>
          <a:ln w="28440">
            <a:solidFill>
              <a:srgbClr val="0066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752480" y="380880"/>
            <a:ext cx="601056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Parts of a Right Triangle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H="1" flipV="1">
            <a:off x="4128840" y="3159000"/>
            <a:ext cx="2361960" cy="144792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3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 flipH="1">
            <a:off x="1143000" y="914400"/>
            <a:ext cx="5562720" cy="3657600"/>
          </a:xfrm>
          <a:prstGeom prst="rtTriangle">
            <a:avLst/>
          </a:prstGeom>
          <a:solidFill>
            <a:srgbClr val="66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14400" y="45720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92760" y="4158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77120" y="44956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6400440" y="424656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4246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781680" y="257652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a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6227640" y="441000"/>
            <a:ext cx="924120" cy="9421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630" y="1"/>
                </a:moveTo>
                <a:arcTo wR="10800" hR="10800" stAng="-5454038" swAng="3334883"/>
                <a:lnTo>
                  <a:pt x="10800" y="10800"/>
                </a:lnTo>
                <a:close/>
              </a:path>
              <a:path fill="none" w="21600" h="21600">
                <a:moveTo>
                  <a:pt x="10630" y="1"/>
                </a:moveTo>
                <a:arcTo wR="10800" hR="10800" stAng="-5454038" swAng="3334883"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7560" y="4503600"/>
            <a:ext cx="220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po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4266720" y="1447920"/>
            <a:ext cx="2133720" cy="3047760"/>
          </a:xfrm>
          <a:prstGeom prst="line">
            <a:avLst/>
          </a:prstGeom>
          <a:ln w="3816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19578000">
            <a:off x="2497320" y="2106360"/>
            <a:ext cx="264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en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 flipV="1">
            <a:off x="4038120" y="2819160"/>
            <a:ext cx="2514600" cy="15238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2000"/>
                            </p:stCondLst>
                            <p:childTnLst>
                              <p:par>
                                <p:cTn id="7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900"/>
                            </p:stCondLst>
                            <p:childTnLst>
                              <p:par>
                                <p:cTn id="8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900"/>
                            </p:stCondLst>
                            <p:childTnLst>
                              <p:par>
                                <p:cTn id="8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7600"/>
                            </p:stCondLst>
                            <p:childTnLst>
                              <p:par>
                                <p:cTn id="9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 flipH="1">
            <a:off x="2465280" y="754200"/>
            <a:ext cx="3810240" cy="2514600"/>
          </a:xfrm>
          <a:prstGeom prst="rtTriangl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98800" y="31129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248520" y="201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1687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5970240" y="296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970600" y="296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267600" y="17445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oppo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92440" y="320040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djac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9576800">
            <a:off x="2845080" y="1288800"/>
            <a:ext cx="257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ypotenu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732320" y="2449080"/>
            <a:ext cx="1523160" cy="16203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23" y="5021"/>
                </a:moveTo>
                <a:arcTo wR="10800" hR="10800" stAng="-1941187" swAng="2040797"/>
                <a:lnTo>
                  <a:pt x="10800" y="10800"/>
                </a:lnTo>
                <a:close/>
              </a:path>
              <a:path fill="none" w="21600" h="21600">
                <a:moveTo>
                  <a:pt x="19923" y="5021"/>
                </a:moveTo>
                <a:arcTo wR="10800" hR="10800" stAng="-1941187" swAng="2040797"/>
              </a:path>
            </a:pathLst>
          </a:custGeom>
          <a:solidFill>
            <a:srgbClr val="3333cc"/>
          </a:solidFill>
          <a:ln w="2844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3352680" y="2049480"/>
            <a:ext cx="2846520" cy="92232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801720" y="4282920"/>
          <a:ext cx="2244600" cy="125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1720" y="4282920"/>
                    <a:ext cx="2244600" cy="125604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4" name=""/>
          <p:cNvGraphicFramePr/>
          <p:nvPr/>
        </p:nvGraphicFramePr>
        <p:xfrm>
          <a:off x="3386160" y="4282920"/>
          <a:ext cx="2320920" cy="125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86160" y="4282920"/>
                    <a:ext cx="2320920" cy="125604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6019920" y="4267080"/>
          <a:ext cx="232236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19920" y="4267080"/>
                    <a:ext cx="2322360" cy="1255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 flipH="1" flipV="1">
            <a:off x="4571640" y="2057040"/>
            <a:ext cx="1600200" cy="10666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6900"/>
                            </p:stCondLst>
                            <p:childTnLst>
                              <p:par>
                                <p:cTn id="116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9600"/>
                            </p:stCondLst>
                            <p:childTnLst>
                              <p:par>
                                <p:cTn id="12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8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8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 flipH="1">
            <a:off x="2208960" y="533520"/>
            <a:ext cx="4496040" cy="3124080"/>
          </a:xfrm>
          <a:prstGeom prst="rtTriangl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905120" y="35812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713640" y="208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713640" y="346392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407280" y="33526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407280" y="33526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11440" y="356076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pposi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670800" y="2133720"/>
            <a:ext cx="186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ac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9591800">
            <a:off x="2994840" y="1605960"/>
            <a:ext cx="246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ypote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4495680" y="990720"/>
            <a:ext cx="1905120" cy="2514600"/>
          </a:xfrm>
          <a:prstGeom prst="line">
            <a:avLst/>
          </a:prstGeom>
          <a:ln w="28440">
            <a:solidFill>
              <a:srgbClr val="3366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08200" y="4459320"/>
          <a:ext cx="2244600" cy="125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08200" y="4459320"/>
                    <a:ext cx="2244600" cy="1255680"/>
                  </a:xfrm>
                  <a:prstGeom prst="rect">
                    <a:avLst/>
                  </a:prstGeom>
                  <a:ln w="9360">
                    <a:solidFill>
                      <a:srgbClr val="ff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3392640" y="4459320"/>
          <a:ext cx="2320920" cy="1255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92640" y="4459320"/>
                    <a:ext cx="2320920" cy="1255680"/>
                  </a:xfrm>
                  <a:prstGeom prst="rect">
                    <a:avLst/>
                  </a:prstGeom>
                  <a:ln w="9360">
                    <a:solidFill>
                      <a:srgbClr val="0066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6059520" y="4443480"/>
          <a:ext cx="2322360" cy="1255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59520" y="4443480"/>
                    <a:ext cx="2322360" cy="1255680"/>
                  </a:xfrm>
                  <a:prstGeom prst="rect">
                    <a:avLst/>
                  </a:prstGeom>
                  <a:ln w="9360">
                    <a:solidFill>
                      <a:srgbClr val="3333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 flipH="1">
            <a:off x="6269760" y="109800"/>
            <a:ext cx="837000" cy="885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836" y="16715"/>
                </a:moveTo>
                <a:arcTo wR="10800" hR="10800" stAng="1992660" swAng="3580694"/>
                <a:lnTo>
                  <a:pt x="10800" y="10800"/>
                </a:lnTo>
                <a:close/>
              </a:path>
              <a:path fill="none" w="21600" h="21600">
                <a:moveTo>
                  <a:pt x="19836" y="16715"/>
                </a:moveTo>
                <a:arcTo wR="10800" hR="10800" stAng="1992660" swAng="3580694"/>
              </a:path>
            </a:pathLst>
          </a:custGeom>
          <a:solidFill>
            <a:srgbClr val="0066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 flipV="1">
            <a:off x="4343040" y="2361960"/>
            <a:ext cx="2133720" cy="106668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900"/>
                            </p:stCondLst>
                            <p:childTnLst>
                              <p:par>
                                <p:cTn id="172" nodeType="afterEffect" fill="hold" presetClass="entr" presetID="18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4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5900"/>
                            </p:stCondLst>
                            <p:childTnLst>
                              <p:par>
                                <p:cTn id="17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600"/>
                            </p:stCondLst>
                            <p:childTnLst>
                              <p:par>
                                <p:cTn id="182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 flipH="1">
            <a:off x="2438280" y="838080"/>
            <a:ext cx="3810240" cy="2514600"/>
          </a:xfrm>
          <a:prstGeom prst="rtTriangle">
            <a:avLst/>
          </a:prstGeom>
          <a:solidFill>
            <a:srgbClr val="99ff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071800" y="321480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00640" y="388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145200" y="31669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5943240" y="30481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3048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47400" y="2822400"/>
            <a:ext cx="458640" cy="12193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473704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4737044"/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248520" y="1828800"/>
            <a:ext cx="121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o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75120" y="3235320"/>
            <a:ext cx="99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j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rot="19613400">
            <a:off x="3473640" y="1283760"/>
            <a:ext cx="157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Times New Roman"/>
              </a:rPr>
              <a:t>h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y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14480" y="4356000"/>
            <a:ext cx="16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O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08360" y="4356000"/>
            <a:ext cx="190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A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62720" y="4343400"/>
            <a:ext cx="1752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5400" spc="-1" strike="noStrike">
                <a:solidFill>
                  <a:srgbClr val="ff0000"/>
                </a:solidFill>
                <a:latin typeface="Times New Roman"/>
              </a:rPr>
              <a:t>OA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200"/>
                            </p:stCondLst>
                            <p:childTnLst>
                              <p:par>
                                <p:cTn id="21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400"/>
                            </p:stCondLst>
                            <p:childTnLst>
                              <p:par>
                                <p:cTn id="22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 flipH="1">
            <a:off x="2597040" y="590400"/>
            <a:ext cx="3810240" cy="2514600"/>
          </a:xfrm>
          <a:prstGeom prst="rtTriangl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189160" y="2925720"/>
            <a:ext cx="53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80280" y="1206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03960" y="2940120"/>
            <a:ext cx="38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102000" y="280044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102360" y="28004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00800" y="15192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425840" y="3078000"/>
            <a:ext cx="45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141800" y="126216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55640" y="2129760"/>
            <a:ext cx="1844280" cy="1950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9998" y="5139"/>
                </a:moveTo>
                <a:arcTo wR="10800" hR="10800" stAng="-1896562" swAng="1946872"/>
                <a:lnTo>
                  <a:pt x="10800" y="10800"/>
                </a:lnTo>
                <a:close/>
              </a:path>
              <a:path fill="none" w="21600" h="21600">
                <a:moveTo>
                  <a:pt x="19998" y="5139"/>
                </a:moveTo>
                <a:arcTo wR="10800" hR="10800" stAng="-1896562" swAng="1946872"/>
              </a:path>
            </a:pathLst>
          </a:custGeom>
          <a:solidFill>
            <a:srgbClr val="3333cc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3581280" y="1850760"/>
            <a:ext cx="2743200" cy="99036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762120" y="4572000"/>
          <a:ext cx="1407960" cy="53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4572000"/>
                    <a:ext cx="140796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3581280" y="4605480"/>
          <a:ext cx="1484280" cy="533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605480"/>
                    <a:ext cx="1484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6275520" y="4572000"/>
          <a:ext cx="14461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275520" y="4572000"/>
                    <a:ext cx="14461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7238880" y="1447920"/>
            <a:ext cx="990720" cy="609480"/>
          </a:xfrm>
          <a:prstGeom prst="wedgeEllipseCallout">
            <a:avLst>
              <a:gd name="adj1" fmla="val -93587"/>
              <a:gd name="adj2" fmla="val 494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105520" y="3429000"/>
            <a:ext cx="914400" cy="609480"/>
          </a:xfrm>
          <a:prstGeom prst="wedgeEllipseCallout">
            <a:avLst>
              <a:gd name="adj1" fmla="val -90453"/>
              <a:gd name="adj2" fmla="val -427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304920"/>
            <a:ext cx="970200" cy="644400"/>
          </a:xfrm>
          <a:prstGeom prst="wedgeEllipseCallout">
            <a:avLst>
              <a:gd name="adj1" fmla="val 25939"/>
              <a:gd name="adj2" fmla="val 113546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04920" y="152280"/>
            <a:ext cx="1523880" cy="1676520"/>
          </a:xfrm>
          <a:prstGeom prst="cloudCallout">
            <a:avLst>
              <a:gd name="adj1" fmla="val -35000"/>
              <a:gd name="adj2" fmla="val 7074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S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H="1" flipV="1">
            <a:off x="4800600" y="1752480"/>
            <a:ext cx="1433520" cy="126072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74760" y="4316400"/>
          <a:ext cx="608040" cy="11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74760" y="4316400"/>
                    <a:ext cx="6080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056200" y="4357800"/>
          <a:ext cx="609480" cy="11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6200" y="4357800"/>
                    <a:ext cx="60948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" name=""/>
          <p:cNvGraphicFramePr/>
          <p:nvPr/>
        </p:nvGraphicFramePr>
        <p:xfrm>
          <a:off x="7770960" y="4322880"/>
          <a:ext cx="419040" cy="11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770960" y="4322880"/>
                    <a:ext cx="4190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33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5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70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8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8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8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8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8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8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 flipH="1">
            <a:off x="2349360" y="484200"/>
            <a:ext cx="3810240" cy="2514600"/>
          </a:xfrm>
          <a:prstGeom prst="rtTriangle">
            <a:avLst/>
          </a:prstGeom>
          <a:solidFill>
            <a:srgbClr val="cc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81080" y="2860560"/>
            <a:ext cx="66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221520" y="763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41880" y="2895480"/>
            <a:ext cx="38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5854320" y="26938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854680" y="26938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180120" y="150984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046400" y="2971800"/>
            <a:ext cx="45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2880" y="1170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H="1" flipV="1">
            <a:off x="5608800" y="-56160"/>
            <a:ext cx="1085760" cy="1066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9" y="0"/>
                </a:moveTo>
                <a:arcTo wR="10800" hR="10800" stAng="-5400159" swAng="3348845"/>
                <a:lnTo>
                  <a:pt x="10800" y="10800"/>
                </a:lnTo>
                <a:close/>
              </a:path>
              <a:path fill="none" w="21600" h="21600">
                <a:moveTo>
                  <a:pt x="10799" y="0"/>
                </a:moveTo>
                <a:arcTo wR="10800" hR="10800" stAng="-5400159" swAng="3348845"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H="1">
            <a:off x="4406760" y="1066680"/>
            <a:ext cx="1384560" cy="1855800"/>
          </a:xfrm>
          <a:prstGeom prst="line">
            <a:avLst/>
          </a:prstGeom>
          <a:ln w="284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066680" y="4667400"/>
          <a:ext cx="1408320" cy="531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4667400"/>
                    <a:ext cx="14083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1" name=""/>
          <p:cNvGraphicFramePr/>
          <p:nvPr/>
        </p:nvGraphicFramePr>
        <p:xfrm>
          <a:off x="3581280" y="4667400"/>
          <a:ext cx="1484280" cy="5317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581280" y="4667400"/>
                    <a:ext cx="148428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6087960" y="4667400"/>
          <a:ext cx="1447920" cy="531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087960" y="4667400"/>
                    <a:ext cx="1447920" cy="53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5" name=""/>
          <p:cNvSpPr/>
          <p:nvPr/>
        </p:nvSpPr>
        <p:spPr>
          <a:xfrm>
            <a:off x="6907320" y="1371600"/>
            <a:ext cx="1190520" cy="838080"/>
          </a:xfrm>
          <a:prstGeom prst="cloudCallout">
            <a:avLst>
              <a:gd name="adj1" fmla="val -76134"/>
              <a:gd name="adj2" fmla="val 5870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dj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648320" y="3173400"/>
            <a:ext cx="1218960" cy="838080"/>
          </a:xfrm>
          <a:prstGeom prst="cloudCallout">
            <a:avLst>
              <a:gd name="adj1" fmla="val -63930"/>
              <a:gd name="adj2" fmla="val -2613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457200"/>
            <a:ext cx="1143000" cy="838080"/>
          </a:xfrm>
          <a:prstGeom prst="cloudCallout">
            <a:avLst>
              <a:gd name="adj1" fmla="val 42222"/>
              <a:gd name="adj2" fmla="val 5227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hy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" y="609480"/>
            <a:ext cx="1523880" cy="1676520"/>
          </a:xfrm>
          <a:prstGeom prst="cloudCallout">
            <a:avLst>
              <a:gd name="adj1" fmla="val -51356"/>
              <a:gd name="adj2" fmla="val -77462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4613400" y="1599840"/>
            <a:ext cx="1433520" cy="126036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2460600" y="4371840"/>
          <a:ext cx="457200" cy="1179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460600" y="4371840"/>
                    <a:ext cx="45720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072040" y="4378320"/>
          <a:ext cx="419040" cy="1179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72040" y="4378320"/>
                    <a:ext cx="41904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7543800" y="4357800"/>
          <a:ext cx="457200" cy="11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543800" y="4357800"/>
                    <a:ext cx="45720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2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2000"/>
                            </p:stCondLst>
                            <p:childTnLst>
                              <p:par>
                                <p:cTn id="3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2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4000"/>
                            </p:stCondLst>
                            <p:childTnLst>
                              <p:par>
                                <p:cTn id="32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1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6000"/>
                            </p:stCondLst>
                            <p:childTnLst>
                              <p:par>
                                <p:cTn id="3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0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8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2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8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500"/>
                            </p:stCondLst>
                            <p:childTnLst>
                              <p:par>
                                <p:cTn id="36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8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8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9" dur="8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0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8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8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0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8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8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0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8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9" dur="8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0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8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 flipH="1">
            <a:off x="1951920" y="708120"/>
            <a:ext cx="5257800" cy="2361960"/>
          </a:xfrm>
          <a:prstGeom prst="rtTriangl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39800" y="295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99200" y="17460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016760" y="3016080"/>
            <a:ext cx="3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6905160" y="2765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05520" y="27655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189920" y="156852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191120" y="3008160"/>
            <a:ext cx="912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rot="20333400">
            <a:off x="4344840" y="1212480"/>
            <a:ext cx="10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 flipV="1">
            <a:off x="6579360" y="63000"/>
            <a:ext cx="1275120" cy="129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26" y="0"/>
                </a:moveTo>
                <a:arcTo wR="10800" hR="10800" stAng="-5391671" swAng="3952792"/>
                <a:lnTo>
                  <a:pt x="10800" y="10800"/>
                </a:lnTo>
                <a:close/>
              </a:path>
              <a:path fill="none" w="21600" h="21600">
                <a:moveTo>
                  <a:pt x="10826" y="0"/>
                </a:moveTo>
                <a:arcTo wR="10800" hR="10800" stAng="-5391671" swAng="3952792"/>
              </a:path>
            </a:pathLst>
          </a:custGeom>
          <a:solidFill>
            <a:srgbClr val="ff0000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47760" y="1241280"/>
            <a:ext cx="2008440" cy="1787760"/>
          </a:xfrm>
          <a:prstGeom prst="line">
            <a:avLst/>
          </a:prstGeom>
          <a:ln w="38160">
            <a:solidFill>
              <a:srgbClr val="3366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914400" y="4629240"/>
          <a:ext cx="1409760" cy="533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4629240"/>
                    <a:ext cx="14097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3581280" y="4629240"/>
          <a:ext cx="1484280" cy="533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581280" y="4629240"/>
                    <a:ext cx="148428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234120" y="4662360"/>
          <a:ext cx="1446120" cy="5335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234120" y="4662360"/>
                    <a:ext cx="144612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3" name=""/>
          <p:cNvSpPr/>
          <p:nvPr/>
        </p:nvSpPr>
        <p:spPr>
          <a:xfrm>
            <a:off x="7696080" y="2057400"/>
            <a:ext cx="1190880" cy="838080"/>
          </a:xfrm>
          <a:prstGeom prst="cloudCallout">
            <a:avLst>
              <a:gd name="adj1" fmla="val -64268"/>
              <a:gd name="adj2" fmla="val -52273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d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029200" y="3173400"/>
            <a:ext cx="1219320" cy="838080"/>
          </a:xfrm>
          <a:prstGeom prst="cloudCallout">
            <a:avLst>
              <a:gd name="adj1" fmla="val -63930"/>
              <a:gd name="adj2" fmla="val -26134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p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89160" y="457200"/>
            <a:ext cx="1143000" cy="838080"/>
          </a:xfrm>
          <a:prstGeom prst="cloudCallout">
            <a:avLst>
              <a:gd name="adj1" fmla="val 61805"/>
              <a:gd name="adj2" fmla="val 54736"/>
            </a:avLst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y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60200" y="152280"/>
            <a:ext cx="1524240" cy="1676520"/>
          </a:xfrm>
          <a:prstGeom prst="cloudCallout">
            <a:avLst>
              <a:gd name="adj1" fmla="val -41768"/>
              <a:gd name="adj2" fmla="val 98675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SO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CA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00"/>
                </a:solidFill>
                <a:latin typeface="Times New Roman"/>
              </a:rPr>
              <a:t>TO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5028840" y="1828800"/>
            <a:ext cx="1981080" cy="1031760"/>
          </a:xfrm>
          <a:prstGeom prst="line">
            <a:avLst/>
          </a:prstGeom>
          <a:ln w="2844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306520" y="4398840"/>
          <a:ext cx="609840" cy="11797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2306520" y="4398840"/>
                    <a:ext cx="6098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4992840" y="4419720"/>
          <a:ext cx="609480" cy="117936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992840" y="4419720"/>
                    <a:ext cx="609480" cy="11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7661160" y="4417920"/>
          <a:ext cx="609840" cy="11797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7661160" y="4417920"/>
                    <a:ext cx="609840" cy="11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2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0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6000"/>
                            </p:stCondLst>
                            <p:childTnLst>
                              <p:par>
                                <p:cTn id="4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4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8000"/>
                            </p:stCondLst>
                            <p:childTnLst>
                              <p:par>
                                <p:cTn id="4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8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4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5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0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6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2000"/>
                            </p:stCondLst>
                            <p:childTnLst>
                              <p:par>
                                <p:cTn id="46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2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9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4T23:31:09Z</dcterms:created>
  <dc:creator>Peter Maher</dc:creator>
  <dc:description/>
  <dc:language>en-US</dc:language>
  <cp:lastModifiedBy>S Johnson</cp:lastModifiedBy>
  <dcterms:modified xsi:type="dcterms:W3CDTF">2008-12-10T02:04:37Z</dcterms:modified>
  <cp:revision>64</cp:revision>
  <dc:subject/>
  <dc:title>PowerPoint Presentation</dc:title>
</cp:coreProperties>
</file>